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FE8-1EBC-4D2C-A96C-BF1D756C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03B-1496-4038-B830-77485F8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40E1E-95A9-4A3F-8E12-1B3D676E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895D0-48D6-4DE1-A7C6-1AFB6E99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7FD6-B9BA-4DEB-A20B-68EF51D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95609-0A29-41C8-92CC-6429DCC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19EC2-D4F7-472C-B1ED-398CA10B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CC69F-A116-40C0-B489-C9BF5C5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60787-EADE-4F93-9667-68F71C4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939DE-7452-4796-93D2-419F9865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7C887-F268-4D5B-858F-1417228A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A0F24-A6B0-4140-B558-80EEB259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204-8498-4C1A-89D8-A83739DB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22B2C-BA00-405D-940B-2D056CB8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20C42-FDD7-4D0C-A08C-DB7E5CF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1A430-088F-488F-B062-57C822AB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22692-BDA6-4459-B24C-46B1E30C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E1CB3-BB63-4C35-9754-DA592136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43966-CFD2-4C46-82F9-40E0671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547F4-F0E9-4C8C-9ACA-FD5F3B5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19CD4-5128-4675-B964-815B722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F9FF7-C920-4B4B-9219-D002525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C10D-3CCC-4D9A-B76A-D53E668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339-7B73-40AC-8A27-F51EC890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553DF-C34E-4F57-B72B-998DBF10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6B53-E191-4B88-9B9E-84620C41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46437-C573-4787-938F-F31A469A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957C-9B75-4791-BE96-46352FB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C3B1C-F3D8-4A07-AF34-674E4FB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273C-01F5-4614-BBE4-8EF7AEE5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64EE5-6047-4125-ACA5-D018186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71074-0EB5-4F3B-9865-68F4D5A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9F829-95D6-43D2-AA3A-FDD130F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D12B9-50B4-4588-A670-7008498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7964-F56D-452A-8455-2A27CEC9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EB98-532B-4757-B027-EACD1AC1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5E60-AF95-4F0F-ABFF-292D485F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51BF0-3063-413D-9BAA-35CC0A7E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8C2DE-B04E-4C82-A341-1DE754F4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9F96D-E604-4E1F-A50B-8338733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8A610-AA6C-48D2-9972-7B0095AB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54659-418C-4B86-8554-836C283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1F6D9-8933-4313-BC53-4ECF1FC6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5DDC8-BFBE-4A5B-9B77-7E8D36EA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F7FE6-3ED6-4AB7-9843-58AFA29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1436-B6E6-41D8-B9EB-0DA7A80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C6234-DEDE-40E9-91FA-0DA0606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5681E-B742-48EF-BF25-B028708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89C2A-E7F0-4E37-A7AF-3B178C1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30B82-B39E-4A27-A9DF-A12A5FDD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82192-D192-4D35-A2E7-54C00CC8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CA99D-50CD-4A49-A352-7546937B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E9D39-A151-4020-B550-3BC17DE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41102-D996-49E7-8AD5-20660ACA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8128F-A1B5-41CF-9930-0B72B909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127CC-98C3-46E1-841B-E2030A59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DAD4-5F46-43B6-BFCA-55EC84D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4DB4C-BEB1-40AE-A69E-2909F01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75C3D-3DA3-4EC3-92FD-B0EAFC0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38D98-FFBD-45BE-90DE-7332A0B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2839A-3F6D-4BF1-AF96-7398CC1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51992-F9F0-4BEA-8B9D-EEBD2C6B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10612-D22E-4067-BB43-4521E4BB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10EF6-6693-49C8-A4BE-1DEEC2B0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92EAE-B283-47D6-A13D-62D625A1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C72DB-E881-4FE3-98D1-461F531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A6B57-7253-4324-ADBD-38A4BAA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5D83-6F5D-4D1C-AE88-C5E9184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61C43-FF55-4012-A9F4-77609CFA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EFCFF-AF3C-491B-B6F9-C14CFBD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1C4F7-1592-420F-98A1-B266019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FC37C-B507-41FF-8A6D-B6FDC68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86EB6-C0CE-4771-B70B-0D9D9F3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99245-F68C-40A9-ACC7-8FCAFDB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B2B9B-CFCE-416E-BE72-954BFEDB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AB1A9-7FD2-46D7-9DC3-3DD1754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308F2-9187-47B9-9D41-BCC2AAAB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D032F-F7A5-4FEE-8D62-6A0FEE72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4C53-0485-494E-9875-4EAA33C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D335E-ADEE-4D1C-9B21-AF8DED85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7086B-37EC-4972-A1B4-7524E26F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737AC-BDB2-4622-A825-0FB8B1E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C5192-59E8-4213-BB0F-023354BA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51654-7768-4DE4-8840-EB75357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DBD53-0135-4280-891B-62276A6E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9FD31-32DD-4981-B640-0B0D5B87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BA5DF-A0AC-4898-B6C9-F4ACF33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A3D20-121C-4803-98FE-B363006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B95EB-C2A5-40C3-A41B-456318E3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E6D3-E41A-4FE3-A33C-9D94DAB5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3D217-F244-4A6A-ACE7-775444C5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5D59D-CF64-4026-87A4-7C1A62D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6E81C-F46F-4A60-96E3-47614AD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B4DE2-06AB-4222-9C2E-935B28C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F1B65-F902-4B67-9AB0-BEF88C0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65866-B46E-4815-AF56-CC5390E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BA346-5F86-44A0-A345-0D77BD0B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90531-4388-47B5-9460-6486937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92900-6EDE-4310-977D-8F30BDF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42452-CDF6-4F4D-B05A-7776B00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EDA-3D16-4CB8-A2EC-EBC4EBB2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E82B8-FA77-4020-860E-FDEF7132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AFC4F-93B4-4192-BD9D-FB1F5F28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521AD-1CE8-4103-A5B2-8F9CA755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94701-133E-4BD1-BDA7-0AD81DBE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CB096-D316-4B7F-B1D9-AEF20D5F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A7C97-414E-4F6D-81E0-CDB7CB7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36EA1-FA32-4D8A-9289-5B76C082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FA72D-DF5A-4888-A950-10BA26F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4B074-E77F-47FA-84CC-C9B4DD13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D9B4B-F0F7-4FCD-9CEA-E53D6268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265-3174-4B9D-B6C3-62C1500F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6668-E2D1-4B7A-B490-D520876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32780-6624-4D70-AB70-0131F2B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FE725-9B4E-4A47-8DDB-8DB7A97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1B70F-9B15-4F98-B6B7-476A361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FED6C-B9BB-42D6-8335-659B9BA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1CF40-6DF5-486B-80FA-EA0A8582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CB27B-46E7-4567-826C-1A825987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8C94E-EFE4-4086-8146-27B3099D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8119E-37C8-48D1-A346-331A858E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55892-4D33-4324-A988-06475E0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65DDA-0CF7-4E2E-B539-68D07D5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198-DE9E-4F27-8861-1594D457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833A7-63B7-42DF-9759-132C24A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8F3DC-CD15-4BAB-82CF-1123C86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B6473-D727-4E67-B254-78320FA6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9510E-EF0C-408C-A839-39076AA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3FC484-58D2-4019-862D-0523942E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EF3FF-3A1F-49B6-B645-60BD38D4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359545-BC0E-4971-96C6-977784C9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5AE04-E885-4BCE-BE43-6D9A923E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1F224-4F1D-4A90-B6A1-4C87357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E65E81-C97E-4D79-ABFD-2B359492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958F-C020-4D2F-B11D-F126C992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3A55B-D6AE-43AB-A113-5D4824F4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F65C0-CC26-41B4-B6EF-5539F9E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04BB5-5C2B-4063-9EE1-9C3644A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C90B7-40E7-441A-9EA4-0646CC6E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9BA65-062A-48BE-BCF1-B4F4B31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C200F-E2E2-4269-8A79-842F5BB7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4AC3C-61D0-41FA-A1CE-0074470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E3D92-4729-471E-ACFA-79BDC43B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A7259-B721-48A2-9CA4-49B327D2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714A0-80B2-4C12-8816-947B610D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FD0-D9D4-4B00-947E-7E1770B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40D2D-6C70-4CBE-A6BE-25BA6A7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66ECE-7B9B-4055-89B7-EACDA47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9A271-CB2E-41D1-B0BE-F12B5DB2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BA4A6-C01F-49FC-A6C6-60212E91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58EA4-599B-46F6-A5FA-1060FA2B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4C5E5-6222-4D6D-903C-EE4ABA8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C01E5-AB0C-4489-917C-B538C5F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3BD31-454D-48A8-883E-8B79BF0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D587C-36C1-4A06-A978-14704B6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8E3E5-657D-40EE-AE55-9159A7F8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2E35-8D24-459E-9102-67FA8A20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10854-DB8D-42ED-8DBC-D563DF8C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71937-BDA8-40A5-895F-066F1AE2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85F58-591E-4371-8CE1-4236920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B188D-D97C-4FC9-A034-9CE0C49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5BF5C-405A-4A0B-9D4B-803A0F38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9B16D-D946-4086-9560-C3E6422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E7EFE-D08F-4190-A9D1-5C317D1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825A3-F4FC-4215-8AF5-78A65DB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50372-222D-4854-AABA-7EA429B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6CB5FA-D93B-45AF-8A1F-43664B5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5DEE-A072-412A-A67D-0B74FC3B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41731-DF22-4138-BDE7-2290758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44B4CA-5A81-4CED-81C8-9143258E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5BF2D-FE6E-456D-9A6C-0823B766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C5A8-5816-4255-8CC0-3D8A8262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4D41-F637-4E0C-9AE2-E57B4F73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A9F2-27A2-4853-A8A9-2C18E9CF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48ED-39AC-438E-B06D-EB8E1CDB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460-D3A6-4489-8948-27C103B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C21B-1C00-4B8B-B334-1088A48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89FD-54A1-481A-BAED-133A9788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A7AA-E333-49C1-9A24-4FD38FF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23EA-531B-4D5D-A9D1-C85984C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4D45-A324-4F93-BAA8-3566C46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C161-C775-4345-BEA3-3B9B35F1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BCAB-006F-4DFB-A647-142D25F0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FEDF-202C-4900-9ED7-3128AA74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0F03-CF0C-4ED1-B92F-67F959A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9250-FB5E-4065-8628-1DBA320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8F6-9845-4FED-BABC-2F4A08A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789C-86EA-4A81-A279-D355882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91F3-B5B3-4F7D-9962-2514513B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B208-8043-43C4-947D-8C6A135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AFB6-27C3-4E16-A142-A0A06530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286A-EC61-4F4B-A2AC-36E38A3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31EB-8E1D-4F46-AFD9-ED0B494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C9FC-1A97-470B-B4E6-E781EF1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9670-FDA2-4359-811F-9969322B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38C5-03F2-458B-BE6B-C6CBC44D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C23E-4AE9-47FE-BF7A-A6F3C29D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E10-6BF9-4B0B-968F-9D37888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714A-DC00-4ED3-9C9F-010D5750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D2FC-7439-43F9-9C54-F4274CC5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B6BC-3314-44F2-A716-C0839DF1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5BF4-3494-4098-9CCF-421DD84E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FE5BB-EAC3-4272-AFAA-A268758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DE2F-EE6B-4DD5-AF4F-6D4851E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E27A-C7D1-4A95-A1EF-DFB7AEE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2B88D-C431-44AB-9529-C8FA452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C253-C5F0-46AB-914F-4F9A59CE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29790-B697-4092-B026-ACC272A9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BC8-72A1-4B31-8D66-B935669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F285E-EFDD-473E-8C5A-EDA10BB0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B172-C911-408D-B58C-0D427641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4923-0561-480F-8FF3-37949FA4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A43F-4957-4A11-A167-BC7B9FC7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2DB8-5EBD-4213-B41D-C767E91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B02FC-0EF5-46FE-9423-2633E44A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0D92-0813-4980-9E72-2BD6F6B8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82F9-F5E1-493E-9E9F-10F1CCD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44DE-3420-42C8-8727-5CC4A7A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DBA3-DD79-478E-A170-AF8F0AE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ECE-39B7-4D08-A8F0-8B0006F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2C733-21B8-4C85-BB8B-2BDA34D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47CC-BC0C-4A11-B3F0-7C4A62A8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D2857-2E1A-4751-A7C1-DF050250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A3478-CEBD-4A0A-94AA-140A33F2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C816-D01E-4A7E-9ADE-2A94267F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DD652-B071-4C9B-AFC6-C61E707D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C8479-51F0-4416-8435-B5E4558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26AD-D19F-4C55-9897-8EAA4B55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1F7D-35F2-466A-939D-10481B7E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185D2-945C-4338-8DF2-4EB4386E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5F5-1D8B-4CE5-92AA-97EC5D0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1D820-8660-4B4A-9FF6-9915F4F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F584-DDED-4596-8470-017E51C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99DDC-4BB3-4746-ADFE-D0AD77D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71BE-10CB-4082-87BB-31C4E4F9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56D3-211C-4713-A8B5-3FDCC6E1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2457-6E9E-4C58-A031-535F4000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3776-FAE7-41F5-A411-81E0B30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7B52-9C4B-4BC1-89CD-6B15BD6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786DA-6532-4374-92A1-89920921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FA36A-FA97-42D0-889D-9762044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958-2A21-42D2-8B25-1462AB9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7CEB-10CB-468D-91C9-A2C74F1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E6AB2-8271-4EBC-89CF-5171763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4428-0518-4321-A124-9535FA5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F18A0-3B2F-4104-8D94-8875836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FF225-CE67-4839-AC40-E4B020A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6A339-B5B8-4879-A038-544FFBC9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445E-3580-4A68-A50B-C90FBCB2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DA71-783A-4964-BCAD-925D4720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86192-9C0C-478E-9195-E6A219E2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225EB-0B6A-4E96-B3A4-A93CA73A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DD75-0A32-4637-9649-9DBFB44573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B4A-32DE-4066-8E37-69C4F2B30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E53D-6743-4492-BFB3-1EEFEF0BC0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D6E9-E9AB-4D44-A3A0-7862C2712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5433-0281-4E94-9879-571A080C6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ED75-2FC5-469F-A3DE-172CCF4BF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883-F51D-4329-BA35-93D402DD8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125B-8518-4FD5-B755-6BE8D41DB3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CA54-5F51-44C2-9889-D08DE6277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391-997D-41D5-9B9E-A2B5BE6FD2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9728-A737-4A75-B8B4-24B321CF5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6152-B289-40C4-99E8-E749BCE6FE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E97-9F28-4A83-BABB-9B7AD9D5FD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4CAE-76E2-4631-AB34-F3FEEA4E1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1F5F-E7DA-4C57-B604-7990BD907A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01F-5138-46A5-AF86-8EE12684C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BF57-1653-4CFC-8103-E419E0D34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2EB8-A508-42D7-ABBE-A55C3A9CF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FF55-5832-4212-AC9D-9CCDF1EED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6AC2-FCE9-43D2-AF6A-37FBA23A6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8686-2FF3-4ADF-A1BB-31BA48697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BCA-ABCD-4D2A-8F18-F4E36E5DE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1920-8BCA-471F-B8B6-71E1B4F95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24C6-C4F7-47E6-9401-6E16097150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7CE2-B313-40C4-B171-38D83666E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A3A-B801-4B08-A9F6-AB71176AC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479E-F844-43BF-90BB-7A5644609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9F23-2C44-49C0-9A2A-C7CB85A79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279-2DA8-40C2-A290-1CD2DC9E04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2B90-C561-487F-B085-314FF253C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990-56FF-45AE-9815-3AEE3A5457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9742-B361-4C13-961F-4753265021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F228-8323-4A5E-B0DB-EF2AFF6E3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025F-BB38-4B74-9E19-5802867B4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152-B539-4566-A469-838216B480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BA61-1945-4108-8CC7-4D2E42B64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CAB-E19B-4425-9118-2E06AA90E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7A8B-3F8F-4A0F-80B4-6CAF5C5B2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1CE1-2512-4970-ABC6-14E709FEE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6FB-A025-45C6-877F-E4B8D9B7E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29080" y="3176640"/>
            <a:ext cx="3886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09480" y="1019160"/>
            <a:ext cx="7925040" cy="4819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411280" y="2070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14836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821052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411280" y="2421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273640" y="2421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8224920" y="2421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284720" y="306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012000" y="306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740720" y="306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598840" y="36734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284720" y="3659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012000" y="3659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740720" y="3659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933480" y="1386000"/>
            <a:ext cx="7277040" cy="4086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4392720" cy="255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619280" y="3386160"/>
            <a:ext cx="4392720" cy="255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1547640" y="4406760"/>
            <a:ext cx="4392720" cy="255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1547640" y="4724280"/>
            <a:ext cx="4392720" cy="255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1619280" y="5075280"/>
            <a:ext cx="59770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109440" y="2043000"/>
            <a:ext cx="8925120" cy="2772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006720" y="3995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006720" y="35733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3006720" y="44085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2608200" y="3995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3419640" y="400536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9:4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